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425D11-645A-4F31-8DCC-522A52FE5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A0C5DD-3A9A-4CDF-B84A-E28BCFB0915D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238C-767D-4F96-9AE6-1106E516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922E-FC5F-4464-AD8C-B52B2E9E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BC01-3156-4496-84CC-52C31015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14DF-14BB-4B6E-86FB-E1632EFFE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C7A-80E6-4F7B-A9BB-BCF45250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F72-4EF1-4701-8859-649B685E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BE1-08D8-4DE0-8F5C-43FBF8B8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E66A-3278-4C31-8E44-3934BA08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AA6-BCE4-42E8-8313-1471F97F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E77B-F399-4D2C-ABFB-4E62941C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9D6-A660-49E5-8AAA-DBFB96C5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B3B-DD92-465F-869B-0CF2948B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54852A-B1CB-4977-9D2A-C19AFEC8C729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Quad Arrow Callout 1"/>
          <p:cNvSpPr/>
          <p:nvPr/>
        </p:nvSpPr>
        <p:spPr>
          <a:xfrm>
            <a:off x="1143000" y="500040"/>
            <a:ext cx="6714720" cy="6071760"/>
          </a:xfrm>
          <a:prstGeom prst="quadArrowCallout">
            <a:avLst>
              <a:gd name="adj1" fmla="val 18515"/>
              <a:gd name="adj2" fmla="val 18515"/>
              <a:gd name="adj3" fmla="val 18515"/>
              <a:gd name="adj4" fmla="val 48123"/>
            </a:avLst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ar-SY" sz="8000" spc="-1" strike="noStrike">
                <a:solidFill>
                  <a:srgbClr val="ffffff"/>
                </a:solidFill>
                <a:latin typeface="Calibri"/>
              </a:rPr>
              <a:t>يوم الأح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09.jpg"/>
          <p:cNvPicPr/>
          <p:nvPr/>
        </p:nvPicPr>
        <p:blipFill>
          <a:blip r:embed="rId1"/>
          <a:stretch/>
        </p:blipFill>
        <p:spPr>
          <a:xfrm>
            <a:off x="0" y="-91440"/>
            <a:ext cx="9143640" cy="694908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0" y="500040"/>
            <a:ext cx="53575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طوبى للمدعويين الى وليمة الرب, انها لحظة المناولة فيا رب تعال الينا وادخل الى قلوبن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” جسد المسيح ... آمين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في ساحة الكنيسة وبعد القداس يجتمع جميع المصلين من أجل تبادل أطراف الحديث فقد أكلنا من نفس الخبز لذلك نحس وكأننا عائلة واحدة عائلة أبناء الله فنذهب جميعا مع سلام المسي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286240" y="5357880"/>
            <a:ext cx="371448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ومعا أيضا فاننا نتناول غذاء لذيذ , فعمل جورج وحنا حلوى لذيذة بينما قام البابا بتحضير حلى أخرى وأضحكنا بحركاته ومقالب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6786360" cy="6857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6786720" y="0"/>
            <a:ext cx="2356920" cy="10325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002060"/>
                </a:solidFill>
                <a:latin typeface="Calibri"/>
              </a:rPr>
              <a:t>ومن اجل الخروج في نزهة , فان حنا قد دعا البعض من اصدقائه اللذين كانوا وحدهم في المدرسة , من اجل الخروج مع عائلته وقد حمل اصدقاءه الكثير من الورود من اجل العذراء مريم أم يس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13.jpg"/>
          <p:cNvPicPr/>
          <p:nvPr/>
        </p:nvPicPr>
        <p:blipFill>
          <a:blip r:embed="rId1"/>
          <a:stretch/>
        </p:blipFill>
        <p:spPr>
          <a:xfrm>
            <a:off x="0" y="-34920"/>
            <a:ext cx="9143640" cy="582084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c000"/>
                </a:solidFill>
                <a:latin typeface="Calibri"/>
              </a:rPr>
              <a:t>وفي المساء فقد تأخر الوقت فنام الجميع عند حنا وقد امضوا وقتا مسليا على العشاء , لقد كان اليوم كما لو قد ذهبوا في رحل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5572080" y="857160"/>
            <a:ext cx="30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Heart 3"/>
          <p:cNvSpPr/>
          <p:nvPr/>
        </p:nvSpPr>
        <p:spPr>
          <a:xfrm>
            <a:off x="857160" y="0"/>
            <a:ext cx="7357680" cy="6857640"/>
          </a:xfrm>
          <a:prstGeom prst="heart">
            <a:avLst/>
          </a:prstGeom>
          <a:solidFill>
            <a:srgbClr val="ff000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ar-SY" sz="3200" spc="-1" strike="noStrike">
                <a:solidFill>
                  <a:schemeClr val="lt1"/>
                </a:solidFill>
                <a:latin typeface="Calibri"/>
              </a:rPr>
              <a:t>بعد العشاء اجتمع الجميع للصلاة:“ يا رب تعال الى القرب من أولئك الذين بقوا في هذا اليوم وحدهم لكي تدعوا أصدقاء حقيقيين للمجيء اليهم , شكرا يا رب للفرح والسعادة التي وضعتها في قلوبنا , شكرا على هذا اليوم  الذي أوجدته خصيصا لهذه السع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01.jpg"/>
          <p:cNvPicPr/>
          <p:nvPr/>
        </p:nvPicPr>
        <p:blipFill>
          <a:blip r:embed="rId1"/>
          <a:stretch/>
        </p:blipFill>
        <p:spPr>
          <a:xfrm>
            <a:off x="0" y="-2880"/>
            <a:ext cx="9143640" cy="550332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اليوم الأحد يوم الرب ” هذا هو اليوم الذي صنعه الرب , يوم جميل وفرح“. انه اليوم الذي قام به يسوع من بين الأموات لهذا فان أغلبيتنا يتوقف عن العمل فهو العيد بالنسبة لن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هذا الصباح فان جورج , حنا وميرنا قد استيقظوا متأخرين وقد ساعد جورج أخيه حنا على النهوض , فتناولوا الأفطار جميعا فمن الجميل أن تكون مع بعضنا كعائل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واليوم فان الرب يدعونا لكي نذهب اليه, فيلبي أغلبنا الدعوة وقلوبنا فرحة وكأنها في عيد , نحن ذاهبون الى القدا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تجلس العائلة كاملة في المقعد الأول في الكنيسة لكي يتسنى لها أن ترى وتسمع كل ما يجري بشكل جيد بينما تساعد الأم ميرنا على فهم ما يقال بالقداس بشكل أفض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0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002060"/>
                </a:solidFill>
                <a:latin typeface="Calibri"/>
              </a:rPr>
              <a:t>يا رب أنت تحدثنا ونحن نستمع اليك , البارحة فان الأم قد قامت بقراءة الأنجيل لأولادها لمساعدتهم على فهمه بشكل ج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0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0" y="357120"/>
            <a:ext cx="61434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c00000"/>
                </a:solidFill>
                <a:latin typeface="Calibri"/>
              </a:rPr>
              <a:t>هذا هو الخبز والخمر , هذا هو عملنا : فرحنا وحزننا , حياتنا كاملة نقدمها لك يا رب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0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خذوا فكلوا هذا هو جسدي المبذول من أجلكم... خذوا واشربوا هذا هو دمي المراق من أجلكم ... هذا هو تقديس القرابين , فيا يسوع ها انت هنا ونحن نعبدك ونصلي ل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0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28632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0" y="6286680"/>
            <a:ext cx="9143640" cy="106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00"/>
                </a:solidFill>
                <a:latin typeface="Calibri"/>
              </a:rPr>
              <a:t>آبانا أنت من يجمعنا فنتبادل المحبة والسلام ” سلام المسيح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  <Words>388</Words>
  <Paragraphs>2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20:24:04Z</dcterms:created>
  <dc:creator>Computer</dc:creator>
  <dc:description/>
  <dc:language>en-US</dc:language>
  <cp:lastModifiedBy>Computer</cp:lastModifiedBy>
  <dcterms:modified xsi:type="dcterms:W3CDTF">2013-05-04T04:39:59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5</vt:r8>
  </property>
</Properties>
</file>